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215-7797-484E-A1DC-A4B0CE21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1F5-2DD2-44C7-9E83-F3FC4C39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B2C-75AB-40CD-B3C1-F9B7EF9E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A56-6440-49CB-ADF4-5BA4B358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8EC-944C-4862-9509-61F5A0D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6D0-6C24-46D4-B170-034D03DF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A4B-3967-4C03-8192-FD7C397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F54-B213-4D37-9DBB-22E03C49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D52-8487-48AF-BF5A-948E13A0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95A-4BA8-4186-86DD-224E7AB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C0C-5B58-45B2-8FD5-1F47F847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D95-E13C-4437-B1CE-85D83E35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EB1-E2E6-4C42-9158-804C0CD0B203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4360" y="434340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وجود الشر بيبق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وجودك راح يحم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الموت علينا بيقس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روحك راح تحيي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انت الحق وانت النور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ضوي نور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اللي بالعتمة مغمور يعرف معنى النو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شربنا كلنا من هالك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دمك يا فاد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صلينالك بالقد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تقدسنا وتهدينا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بكرى لما نلاقي الن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شوفو وج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يفهموا انو الأس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بقى صوتك مسم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8:29:49Z</dcterms:created>
  <dc:creator>user</dc:creator>
  <dc:description/>
  <dc:language>en-US</dc:language>
  <cp:lastModifiedBy>user</cp:lastModifiedBy>
  <dcterms:modified xsi:type="dcterms:W3CDTF">2006-05-05T05:41:40Z</dcterms:modified>
  <cp:revision>14</cp:revision>
  <dc:subject/>
  <dc:title>Slide 1</dc:title>
</cp:coreProperties>
</file>